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3ACC-4148-4141-8B04-0A89CC66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C108-AD0C-4D92-A28E-93725974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A1C9F-24D8-4B4E-89F8-EB0E53CB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A134F-6A7D-4251-9497-D4CE5291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64523-EA09-4508-9AAE-DC2EB6F6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5BABE-B8E2-45F1-8D1B-D3188437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5DBD4-D6B6-4243-B6E0-A9E7A795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4340E-CBC0-42D7-AB89-3AB3F3AB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8B53A-F07A-4EB0-9A95-C43A3CCB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A9C8A-C726-4D8B-BCB5-D143DEB2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634FC-29F4-4CEC-B775-BA800308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8231F-44F5-478E-98AD-51B5C0B5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C893-C9A7-4007-A4A1-2238C51D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A3C51-DADC-47C3-B91E-73584D56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89989-FE55-4C0B-A89F-B318ABC6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0E108-703E-45BA-948C-389D4644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494D8-CF2B-4AD8-9C86-BC1125AF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FFB15-C61E-4910-A4FF-C8A2338E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C3C4C-E6C8-4B72-A513-079BD31E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A68B7-7A91-4912-AB34-8A31548F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BCA83-9F4A-415B-9E8C-D5EC2470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DE307-E8C4-431D-90F2-C6511251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D35EC-DED8-414C-A3E8-23BAB191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5EBC-2FF9-4838-BDA8-A8F3689E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FA995-6D27-49FC-BB51-4B87DFB7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A3900-509A-4F68-81EB-C63AD833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66BD0-5D9E-4D1E-9876-B700D0AF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8433A-0EAE-438B-9646-08687B25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4225D-5C0E-4F18-95D1-30821FD2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DC6C3-940D-4371-854D-9265190A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EA6E9-B478-40D6-B88B-03D5E0CD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05AC6-B5B8-43F0-8AF6-64880B49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9B58E-B009-4206-B852-A1667CE2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32378-A0D4-4833-AE69-C7CAA4AA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DE4A-E086-4249-A265-59E72955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7DF8B-32D5-415B-AA4B-00E30742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56ECF-C2D8-4284-A4A9-EFBF750A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D575F-5962-40D5-AFC8-3DE7591C0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64062-8681-4854-AE45-B8A21B84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BE8BC-10B9-4A9E-9743-6254A08B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B6987-0731-42A2-B230-8CB3589F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EAC85-000D-4EC4-A80B-D0A793DD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4B599-DDBB-42EF-838C-4DADD3A7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0B198-04E6-4807-BE72-26280F64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77B23-CAC2-4CA1-8EC6-B2686E3C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A2CF-564C-4D0D-996D-A5548A45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AF43A-0AA8-44E1-AC3E-C9655A9C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58CDD-3C3F-4FBE-9954-F34A183C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40460-1DF4-4937-B70E-2F42CEAD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A39F2-8DD1-48EC-BF86-AF85734C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012C5-F99E-4DAD-B778-70B000D1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EDCE3-CC35-4987-9EF8-9A0A6F1D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66E8CE-04E1-4EBA-B5E4-C703D254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0F0A3-B101-4C1A-9F5E-8917FE39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BB85A-8D14-498C-A98A-4F27CD40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D0EE7-11A1-4811-ADFB-293451AD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ED8B-1C52-459E-ABD8-8315EE90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E023F5-229E-4F37-A2AC-0C6CFAE6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E0052-8DAA-40E4-B685-64F31DAF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F56B3-B23B-4134-9B4F-3D7EB56E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7E9B2-9DF2-4EE5-B333-1E02F408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7F7FEB-BBF6-439B-87F4-6383D4C9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9D1EA-3F5D-48BF-9423-9BCB29B4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4B205-8996-446A-B942-78D16D66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9ADB52-9004-454B-99BC-517F25A9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DC3A65-6C2F-4524-B4D5-56F3116C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0B66E2-F071-4DF2-94F6-8B95E765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FD98-814A-46AC-AF1B-6B1597EE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BC490D-2D19-45BB-BD2A-58459479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63EA78-29DD-4230-ADF0-A8981036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0C516E-E8A0-44F5-AEF2-B0BCD265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270AF1-A69B-4A26-A98E-11AB38C4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C4EBF3-9F37-4613-B404-5695FBA1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8080BD-BEC5-4FDC-8380-0CD63D38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A999B0-050F-497A-8B61-E8A1FD68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62418A-8DCB-4B23-8804-29425CF7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1BB786-7CEB-4F88-B00B-0C121CAAF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549023-F7AB-481D-B40F-3FF4A38C1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2EFD-B067-4A9B-A949-100DB33C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D0E703-95FB-43EB-8B7B-F6FB5D15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FD17B2-7FF4-42B7-AEB5-0A0545AB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56BDB8-F9F4-4154-B406-A9EAD532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530618-D504-464C-A4E3-24BC588C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EA1530-362A-441F-8FD4-953F65E7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BAC8C9-5CAD-4613-AA6A-9AE43714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2041C5-36DB-4CCC-976A-FC97FD65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25C211-9F15-42BB-A309-9C515879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CD3222-4533-43B1-879A-7BA4E65D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72583D-75D7-465D-A21E-AA8EE460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659E-C033-4924-91F2-9C8B013A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D61987-0C5C-4F6B-B857-57D55658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DA8472-F107-4770-B208-65B53F6B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510E3D-4690-43EE-9BAA-444494CB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59E722-3E5D-4021-8192-E0446BAE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08BF2F-47EA-4E6D-9DB6-96D281A7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9A2086-25BC-4CA7-9A74-AA06330E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CDA902-2FA7-4173-902F-DD860871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5EB40A-BAAC-4B05-9AC4-15584F5A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DEA290-8683-43B4-8313-365B6FE5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2400AA-A0AD-4061-B1C7-8A3FE66B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1855-ED25-48F6-8E1A-7A023668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09E0F0-E7AB-42D2-908F-AD5B57AF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B3D581-F106-4862-8F86-59B8CE11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6CDC6D-C573-40B1-A5F7-EF810217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686FE5-6C94-403B-8DD8-9AE3AE4E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3162C2-5711-4A04-A37B-05E7C58B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83A026-5D79-4E7D-A365-C6580237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7E70CE-1AD6-486F-82BD-A25ECA17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44DA7E-4A69-44DD-B8B1-D0EEE7FA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CFC9EC-9150-4AD4-A085-2B79D013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54E7BB-4866-40A4-AA7A-FEC44A96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1116-63BA-44C1-BDC6-81D32C3C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9DE8-EEE4-4C68-8DB4-674C1409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76774D-ECAC-4B48-ADEE-A882F9F1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4DD231-90D4-4406-9051-2D9DBE05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E9C97C-02F2-4CDA-915B-0FBEDCB0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63AFC0-2C31-4C66-902E-8DDC936A5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A87A7A-DE06-4C18-83EA-F4ABCC7D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654D10-1FA3-40F3-95E2-F2FE22DA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D8D715-A51A-4FE9-B19E-5257EEF2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80A4F9-A892-47C3-9AF1-573EAB81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2B8CA8-EE00-4223-97CE-3B36FD93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8EF883-4AA2-4D2A-9DD7-B9E42D1F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760B-AAF1-44F4-865E-10979A42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5C27F9-EB72-4281-A4A0-D68482D1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A334B3-5F2A-43E9-A05D-144757DD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45D1B9-9AA7-402C-AE37-95439AFB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F6CE26-0FBC-4C6F-8566-0863A5DD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C1C349-84BE-41C8-A2DD-BF6DE5E6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1033C5-AECE-4888-AAC3-C95387E8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6602AF-3369-492D-BA1A-3E420CA34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FDB756-E5F0-4540-BE90-E1FE67F8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E29645-6D9E-4863-8EC9-96903CA1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A95A78-7631-400C-855A-34AF3F0D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F558-1ABD-4ACD-8381-C070E06F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42A3AD-1FDF-478E-9A87-7B73C352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6B0B7F-D26B-46BE-884E-B15EA703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1744A0-D523-4155-8A51-85E68E1A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D22839-EF11-40AA-97F9-CD444624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9A67CE-5371-4B50-A3A6-847C6D3E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67958B-A207-4F00-A37C-2678D5B5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42A29D-6D66-4295-95CA-C36B0CE9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9BB9E5-B6E3-4E19-89BC-7BF9B91B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AD4C7B-2A96-4977-AE84-1C710423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299D16-4621-4C0A-893F-B2DA0B23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B8A2-A8C9-41E6-9F93-8933DF0E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4EB0EE-43BB-4DD3-9A94-602EB9F4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555E08-7653-4488-94E7-AABB2F31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1A0AE3-3358-41CC-AFA7-09BB39E2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92850C-B52D-4796-A2C7-F8F41159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C84613-519A-4DC6-8D2F-AFB25106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5F5A23-F602-4EEF-B4F7-A726BA19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237658-1428-419A-9D62-1F30B30D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EBE63F-99CE-488E-A2B6-1094F127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13F946-F0CC-4C39-9E3F-73233AF4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9B0963-3DEF-47A2-861F-76FB070D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1354-ECCC-4447-B701-2A140B6F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63BA08-0707-4E07-8985-DCC55955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E7D606-75B3-41D4-99B2-F6AA29CF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917885-404C-415C-AF74-C073FA9C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F60D1E-5A88-4A68-90D0-EFDFF04B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9B16C5-2269-43FF-8CD3-29FCB431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1613C8-502D-463E-9C74-B99DE4D7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67BE4F-A3AD-48D5-98C0-C86F03BA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380030-710B-4A6B-8006-3BD3DFAA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BE1846-2CE9-4AE3-B34A-A5B636F7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648188-9FCB-4C22-96E4-8FFC4FEE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6F2E1E-B332-4504-816A-AF9021A2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5DE77D-0F3D-4AE8-98D7-A7A766CA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EDB545-EF77-4A35-A597-A4C60C44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3A0A-1AC7-43B1-A408-CDC3CF14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E5778-8A09-4BCB-A897-AA115747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3FB5E-F8CC-4396-8B48-53853DFD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C52CA-50CE-4180-86FD-46F44C9A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EF9E-0B44-4D47-9EC2-72AF7161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E23BE-5F21-4E99-9BDC-AC76904B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7FDB0-2177-4C24-8A1E-2B29CD42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27927-2F9D-40D5-8027-A187BAFA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79977-5FAD-482A-B058-57D548CB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A8E16-8110-4EE8-B9CD-8EA036D8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C5EA4-8F8F-4D01-B591-861ACD4F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5E7AE-F495-459B-AFFC-34923CF2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2FCAD-BAB5-49A2-9D99-ADAA0251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4DFFF-8B35-4800-B0D5-D17198B7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84966-4977-4BBC-830D-BC6BFD3C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6FB7-2342-48B2-86E6-1EC3D177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D0A9A-B525-473F-ADCF-DD2253E6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6CB81-C6BD-4CE8-A1A9-70FB163C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F1541-970B-4D0F-BDE6-FF6424DC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8CBF6-2C88-4699-A65D-18575A61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E34FA-3F99-4614-B4AA-5E995050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B4356-1BDF-40F9-A9C4-807E1BF7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FE902-C505-44E2-BFD8-1136A987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7A69C-2A84-485E-84E9-A6C41C07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4EFC6-9818-4034-8492-A0B936A6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DA787-2EB5-45A4-95A1-7E77F66D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7E7F-9450-4484-87F3-A03BCE15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FF62F-B037-45FA-B753-22FAE9A2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E430B-9803-4B03-B001-CDC15492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A9488-E90A-4E60-96A4-545600BA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34B7D-70F8-4DC3-B111-49FA4590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8BFFB-485D-48C9-9D1B-E7BBF7E9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1C9C1-38FE-4F7C-A2B0-551A6AC4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22164-8A7F-4C39-BB57-7B9B6C08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A88D9-2864-429A-8A29-56ADB80C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C7B82-5DD8-4FC4-9271-7558CFAA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B4D0C-DEEA-457D-8532-6B7B4393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A26F-ED12-44F5-B275-B840A521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4DF5F-BAEC-4947-8525-0577A762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012CB-8916-4491-A50C-00CA7540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61E5D-0ECD-49CE-AE2F-59CF82E6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5820B-2664-4D77-B105-9FB1F2FD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6CEB8-0C31-4DDB-B05F-4204D4C6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575F0-DF01-4421-B32F-905E73A3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8D47C-253F-42CE-BED9-6D2ACF0E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7DBFE-2D7E-4B82-8FE2-9964134A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1B2B1-786F-41CA-A1D4-BDA1DCAC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D7C27-8B21-4BF2-BC7F-1EACC79F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D6AE-7E7D-405A-A61A-D4293D4D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D6AEF-0D30-42C3-8D22-176ACF9F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97F87-A44F-4B8F-B753-AB307C30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1E9D3-F28B-4858-B47F-D705DACF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53EBC-9446-47DB-BBAF-4787373C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7F352-CFF3-405E-9DD0-02D7469F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E79BE-28F8-4DF5-851D-3360CC70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53DED-CA6A-4E67-A27E-FD4BC333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E9F23-36C5-4BDA-ACDC-E3BF4715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65DEB-03F3-48F7-938F-7FD762A4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969DF-7625-4B59-9129-939C8560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DA30-A94A-4D61-AA10-BB817FF1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42369-4CC2-42D5-AB86-60BF97A2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B67A8-E8FD-4987-BCAD-888AF4E2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0EAFC-A423-4F62-858C-3F62F781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90006-C496-4974-988D-7BBDC258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DBFAE-1472-4E78-A34E-6EBE164E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FC934-EF01-491C-BDDF-7E93C09C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3DC56-B749-41A4-8B29-B7B37A66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B6BE0-D755-4737-B85B-D61342C5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ADE3F-4E48-40CE-B788-358CFC14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574F3-AC22-46CB-A0CD-64123B2A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A035-EC00-453C-B155-EBB0C35769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266F-7087-4DA7-928A-00CF0A142B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7EBA-8A69-4931-BD2D-05C071491D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A6C3-A1E3-418F-A3B6-27F8C6E5AB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EC2A-1045-46DB-80FE-602F34A92A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29B5-A9E6-400F-B46E-9E62565D3A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402B-670E-4AB1-A77D-B2915D222F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C6F7-A92A-468C-B520-174AB41373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B539-E42C-4011-8F58-F451C24468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FEAD-F621-41B8-AFE2-4B348CAD05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9297-C3E7-42EC-A677-C284346635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2545-8B58-4B71-972A-D0FEA37723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97C4-7569-4850-9354-3461E056FE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B5F5-C993-497E-868C-D1017DE3FD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6E76-BE74-4A25-B0C3-2D98CBF6B6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90C1-FEF8-4835-BEE9-CFCBEDCA9F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3A06-F126-41D3-87CA-B7A7D7F55B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2B72-D691-4606-BE16-E4BC239E5E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C228-6AD2-4F0F-B451-5F8DE28B73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57C9-8BBC-430A-9367-6A73C29815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5306-1D5C-4D87-A9DF-0C2BDBD555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8123-E1C9-41B6-AE88-9A4574B024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E1F8-31AB-4CE4-A41B-980CCB11D0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E9E1-57FB-4F9D-ADBC-6887DD9EC9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253E-7994-4586-ADEA-AB95C67CF8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1C10-6BEB-4477-871B-E36C8C59F6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3B79-15FA-456B-9089-AE7A3ADD8B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5CBE-B97D-4C62-9786-94F2B005DD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845B-C373-4BF5-B6F6-3F760C2A4D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3E25-1997-4D8C-85C8-6C984D2767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2A6E-0C6B-49F3-881F-25804F659C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F34E-714A-4A03-A0F1-153A7D6B6B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96AC-AC64-426A-8DB0-BE2A496645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F71A-1862-47B9-9CF4-218F07ACAC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B655-E4F0-49EA-AF2B-5600B2C42D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6270-33AE-4FB6-A57A-E1B042900B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4399-E46D-4DCE-8A57-058E837E1C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EAC0-3B4A-45D6-A0C7-B37E9E3D58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DF0A-412A-48FF-BEA9-735754EBF4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2786040" y="2133720"/>
            <a:ext cx="3657600" cy="1009440"/>
          </a:xfrm>
          <a:prstGeom prst="rect">
            <a:avLst/>
          </a:prstGeom>
          <a:ln w="0">
            <a:noFill/>
          </a:ln>
        </p:spPr>
      </p:pic>
      <p:pic>
        <p:nvPicPr>
          <p:cNvPr id="1022" name="图片 2052" descr=""/>
          <p:cNvPicPr/>
          <p:nvPr/>
        </p:nvPicPr>
        <p:blipFill>
          <a:blip r:embed="rId2"/>
          <a:stretch/>
        </p:blipFill>
        <p:spPr>
          <a:xfrm>
            <a:off x="90360" y="3436920"/>
            <a:ext cx="89632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1" name="图片 13313" descr=""/>
          <p:cNvPicPr/>
          <p:nvPr/>
        </p:nvPicPr>
        <p:blipFill>
          <a:blip r:embed="rId1"/>
          <a:stretch/>
        </p:blipFill>
        <p:spPr>
          <a:xfrm>
            <a:off x="100080" y="985680"/>
            <a:ext cx="894384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4" name="图片 14337" descr=""/>
          <p:cNvPicPr/>
          <p:nvPr/>
        </p:nvPicPr>
        <p:blipFill>
          <a:blip r:embed="rId1"/>
          <a:stretch/>
        </p:blipFill>
        <p:spPr>
          <a:xfrm>
            <a:off x="804960" y="797040"/>
            <a:ext cx="7534080" cy="580068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2"/>
          <a:stretch/>
        </p:blipFill>
        <p:spPr>
          <a:xfrm>
            <a:off x="1547640" y="5288040"/>
            <a:ext cx="1729080" cy="4492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3"/>
          <a:stretch/>
        </p:blipFill>
        <p:spPr>
          <a:xfrm>
            <a:off x="5003640" y="5300640"/>
            <a:ext cx="3313440" cy="4492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4"/>
          <a:stretch/>
        </p:blipFill>
        <p:spPr>
          <a:xfrm>
            <a:off x="1547640" y="6000840"/>
            <a:ext cx="1729080" cy="4492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5"/>
          <a:stretch/>
        </p:blipFill>
        <p:spPr>
          <a:xfrm>
            <a:off x="5003640" y="5975280"/>
            <a:ext cx="1729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25" name="组合 22531"/>
          <p:cNvGrpSpPr/>
          <p:nvPr/>
        </p:nvGrpSpPr>
        <p:grpSpPr>
          <a:xfrm>
            <a:off x="250920" y="285840"/>
            <a:ext cx="5848200" cy="6433920"/>
            <a:chOff x="250920" y="285840"/>
            <a:chExt cx="5848200" cy="6433920"/>
          </a:xfrm>
        </p:grpSpPr>
        <p:pic>
          <p:nvPicPr>
            <p:cNvPr id="1026" name="图片 22529" descr=""/>
            <p:cNvPicPr/>
            <p:nvPr/>
          </p:nvPicPr>
          <p:blipFill>
            <a:blip r:embed="rId1"/>
            <a:stretch/>
          </p:blipFill>
          <p:spPr>
            <a:xfrm>
              <a:off x="755640" y="700200"/>
              <a:ext cx="5343480" cy="601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" name="图片 22530" descr=""/>
            <p:cNvPicPr/>
            <p:nvPr/>
          </p:nvPicPr>
          <p:blipFill>
            <a:blip r:embed="rId2"/>
            <a:stretch/>
          </p:blipFill>
          <p:spPr>
            <a:xfrm>
              <a:off x="250920" y="285840"/>
              <a:ext cx="2438280" cy="43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8" name="直接连接符 22532"/>
          <p:cNvSpPr/>
          <p:nvPr/>
        </p:nvSpPr>
        <p:spPr>
          <a:xfrm>
            <a:off x="2627280" y="1413000"/>
            <a:ext cx="1800360" cy="15112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直接连接符 22537"/>
          <p:cNvSpPr/>
          <p:nvPr/>
        </p:nvSpPr>
        <p:spPr>
          <a:xfrm>
            <a:off x="2649600" y="2946240"/>
            <a:ext cx="1800000" cy="1511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直接连接符 22538"/>
          <p:cNvSpPr/>
          <p:nvPr/>
        </p:nvSpPr>
        <p:spPr>
          <a:xfrm>
            <a:off x="2627280" y="4365720"/>
            <a:ext cx="1800360" cy="15112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直接连接符 22539"/>
          <p:cNvSpPr/>
          <p:nvPr/>
        </p:nvSpPr>
        <p:spPr>
          <a:xfrm flipH="1">
            <a:off x="2626920" y="1557360"/>
            <a:ext cx="1800360" cy="43927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图片 21505" descr=""/>
          <p:cNvPicPr/>
          <p:nvPr/>
        </p:nvPicPr>
        <p:blipFill>
          <a:blip r:embed="rId1"/>
          <a:stretch/>
        </p:blipFill>
        <p:spPr>
          <a:xfrm>
            <a:off x="880920" y="952560"/>
            <a:ext cx="7382160" cy="49528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1908000" y="1844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1979640" y="393372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9" name="图片 20481" descr=""/>
          <p:cNvPicPr/>
          <p:nvPr/>
        </p:nvPicPr>
        <p:blipFill>
          <a:blip r:embed="rId1"/>
          <a:stretch/>
        </p:blipFill>
        <p:spPr>
          <a:xfrm>
            <a:off x="1343160" y="1366920"/>
            <a:ext cx="6457680" cy="41241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1692360" y="350028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8193" descr=""/>
          <p:cNvPicPr/>
          <p:nvPr/>
        </p:nvPicPr>
        <p:blipFill>
          <a:blip r:embed="rId1"/>
          <a:stretch/>
        </p:blipFill>
        <p:spPr>
          <a:xfrm>
            <a:off x="1138320" y="2481120"/>
            <a:ext cx="6867360" cy="18957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1476360" y="25178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图片 9217" descr=""/>
          <p:cNvPicPr/>
          <p:nvPr/>
        </p:nvPicPr>
        <p:blipFill>
          <a:blip r:embed="rId1"/>
          <a:stretch/>
        </p:blipFill>
        <p:spPr>
          <a:xfrm>
            <a:off x="104760" y="1652760"/>
            <a:ext cx="8934480" cy="3552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1187280" y="256536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1187280" y="3284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4"/>
          <a:stretch/>
        </p:blipFill>
        <p:spPr>
          <a:xfrm>
            <a:off x="1187280" y="400536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5"/>
          <a:stretch/>
        </p:blipFill>
        <p:spPr>
          <a:xfrm>
            <a:off x="1187280" y="466560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5" name="图片 10241" descr=""/>
          <p:cNvPicPr/>
          <p:nvPr/>
        </p:nvPicPr>
        <p:blipFill>
          <a:blip r:embed="rId1"/>
          <a:stretch/>
        </p:blipFill>
        <p:spPr>
          <a:xfrm>
            <a:off x="523800" y="1314360"/>
            <a:ext cx="8096400" cy="4229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图片 12289" descr=""/>
          <p:cNvPicPr/>
          <p:nvPr/>
        </p:nvPicPr>
        <p:blipFill>
          <a:blip r:embed="rId1"/>
          <a:stretch/>
        </p:blipFill>
        <p:spPr>
          <a:xfrm>
            <a:off x="338040" y="1290600"/>
            <a:ext cx="84679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2" name="图片 11265" descr=""/>
          <p:cNvPicPr/>
          <p:nvPr/>
        </p:nvPicPr>
        <p:blipFill>
          <a:blip r:embed="rId1"/>
          <a:stretch/>
        </p:blipFill>
        <p:spPr>
          <a:xfrm>
            <a:off x="399960" y="1081080"/>
            <a:ext cx="8344080" cy="46958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3851280" y="1112760"/>
            <a:ext cx="1152360" cy="449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3"/>
          <a:stretch/>
        </p:blipFill>
        <p:spPr>
          <a:xfrm>
            <a:off x="2627280" y="1798560"/>
            <a:ext cx="865080" cy="4492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4"/>
          <a:stretch/>
        </p:blipFill>
        <p:spPr>
          <a:xfrm>
            <a:off x="3564000" y="2492280"/>
            <a:ext cx="865080" cy="4492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5"/>
          <a:stretch/>
        </p:blipFill>
        <p:spPr>
          <a:xfrm>
            <a:off x="2700360" y="3213000"/>
            <a:ext cx="1584360" cy="4492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6"/>
          <a:stretch/>
        </p:blipFill>
        <p:spPr>
          <a:xfrm>
            <a:off x="1835280" y="3860640"/>
            <a:ext cx="865080" cy="4492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7"/>
          <a:stretch/>
        </p:blipFill>
        <p:spPr>
          <a:xfrm>
            <a:off x="7524720" y="4581360"/>
            <a:ext cx="86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7:28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